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F8C7-D36A-4E84-BF97-BC9355C90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0B1-433F-4CED-87E8-A723B011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886-7B3A-4DF7-8B89-1D8D11E7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CB4-A0C5-45D1-996D-AE0709E7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189-91E5-4EDB-AF27-4F8A3B89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1C0-B8F1-46EA-9D54-BD0C1C2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7DA-46A6-4531-9EB5-0971A1C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FE5-B427-4B40-A503-9C36E6D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582-B109-4E89-8BF4-990B2664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72B-C981-46AD-869E-0B06FA6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CF9-8575-475A-A068-3033C49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31C-3FDC-4D1C-87A6-28A0546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6D9-9205-468B-8904-EA54019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22FD-E4D0-47C5-948D-5F9BCC8E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Hershey &amp; Chase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the composition of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2-04-14T02:40:38Z</dcterms:modified>
  <cp:revision>95</cp:revision>
  <dc:subject/>
  <dc:title>Molecular Genetics</dc:title>
</cp:coreProperties>
</file>